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B440-9A04-43BF-A183-D08A2BCF9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6FC5-16E9-4AC3-BDEF-9110EE501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B84C-8B7E-4F36-B1F0-72654DBFA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C1D2-93ED-47E0-BFA8-E15F0641A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2DCA-33C6-458A-8F68-382227A8C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A67E-76DB-45D4-9BE1-6ACEDCDBA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87BE-F754-4062-A48D-5CAB42BB9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9F0D-C4ED-4B16-BF9F-3BBA1F6FE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756E-01CE-434D-8851-92AFDF2E2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2D54-BB39-47A7-BE26-784732AFF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E7B9-5A68-44E9-92E4-34E1F49F5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5020-6735-4735-985F-73BE50BE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AD011-3697-4407-B62E-9ECCE621A2DB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2781360"/>
            <a:ext cx="7772400" cy="1008000"/>
          </a:xfrm>
          <a:prstGeom prst="rect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YAPIM KUŞAĞ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19280" y="4365360"/>
            <a:ext cx="6400800" cy="718920"/>
          </a:xfrm>
          <a:prstGeom prst="rect">
            <a:avLst/>
          </a:prstGeom>
          <a:solidFill>
            <a:srgbClr val="660033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ÜRETİYO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692280"/>
            <a:ext cx="669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Benim Sorunum Yok ki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042920" y="2414520"/>
            <a:ext cx="7058160" cy="36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24000" y="836640"/>
            <a:ext cx="86040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İyi düşünüldüğünde pek çok sorun ve çözüm önerileri listelenebili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erkesin kendine göre karşılaştığı değişik sorunlar vardı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unlardan bazılarını listeleyin dendiğinde nedense “ Benim sorunum yok ki! ”  diyenlerle karşılaşıyoru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run listelemeyi Rehberlik Servisiyle görüştüğünüz sorunlarla, kişisel, duygusal sorunlarla karıştırmayını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er sorun dünya çapında olmayabilir, herkesi ilgilendirmeyebil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3600"/>
                            </p:stCondLst>
                            <p:childTnLst>
                              <p:par>
                                <p:cTn id="8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6000"/>
                            </p:stCondLst>
                            <p:childTnLst>
                              <p:par>
                                <p:cTn id="8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46000"/>
                            </p:stCondLst>
                            <p:childTnLst>
                              <p:par>
                                <p:cTn id="9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67800"/>
                            </p:stCondLst>
                            <p:childTnLst>
                              <p:par>
                                <p:cTn id="10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59280" y="4869000"/>
            <a:ext cx="585288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Sorunlar ve Çözüm Önerile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28843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042560" y="404280"/>
            <a:ext cx="64818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Aklımıza Gelen Sorunlardan Bazıları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(Çalıntı Yapmayınız!)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Küresel Isın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Çöp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Elektrik Tasarruf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Alternatif Enerji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Kuraklı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Gece su iç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Renkli yazı yazarken kalem değiştir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Atık malzemelerin geri dönüşüm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Taşıma-Ulaşı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Gece kitap oku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Çayı karıştı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Bitkilerin sulanmas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150"/>
                            </p:stCondLst>
                            <p:childTnLst>
                              <p:par>
                                <p:cTn id="14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600"/>
                            </p:stCondLst>
                            <p:childTnLst>
                              <p:par>
                                <p:cTn id="14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6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6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6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6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6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6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6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6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6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6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376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Unutmayın ki her tasarım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mutlaka bir  sorunun çözümü veya hayatı kolaylaştırmak için ortaya çıkmıştı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556000" y="2637000"/>
            <a:ext cx="3762360" cy="351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Öncelikle Projenize bir isim veriniz. Projeye isim verirken, kısa, etkili ve projenizin çalışmasını kısmen açıklayıcı (Tabure, Otomatik Lamba, Güneş Enerjili Oto vb.) bir isim olmasına özen gösterini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124000" y="2033640"/>
            <a:ext cx="39988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4724280"/>
            <a:ext cx="9144000" cy="13737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Bu derste kaydettiğiniz gelişmeleri sınıfta arkadaşlarınızla paylaşacağınızı unutmayın ve yaşadığınız süreci günlüğünüze yazı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042920" y="549360"/>
            <a:ext cx="727416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000000"/>
          </a:soli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A.KADİR AKBA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27160"/>
          </a:xfrm>
          <a:prstGeom prst="rect">
            <a:avLst/>
          </a:prstGeom>
          <a:solidFill>
            <a:srgbClr val="000000"/>
          </a:soli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EKNOLOJİ VE TASAR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ÖĞRETMEN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076720" y="0"/>
            <a:ext cx="3167280" cy="77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ireysel olarak yapacağınız bu etkinlikte de buna benzer tasarım sürecini yaşayacaksını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u etkinlikte grup olarak yaptığımız etkinlikten farklı olarak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orunu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veya ihtiyacı siz belirleyeceksini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365616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26028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aşamınızda değiştirmeyi, geliştirmeyi düşündüğünüz durumlar nelerdi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İnsan yaşamında acaba neleri değiştirip  geliştirmek is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700360" y="2565360"/>
            <a:ext cx="39290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763640" y="4365720"/>
            <a:ext cx="5699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asarım meydana getirmenin en önemli bölümü  ne yapacağınızı yani neyi tasarlayacağınızı bulmaktı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771640" y="476280"/>
            <a:ext cx="376740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4220640"/>
            <a:ext cx="91440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. Dönem Kurgu Kuşağı “HAYALLERİMDEKİ DEĞİŞİM VE GELİŞİM” etkinliğinden yola çıkarak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gerçekleştirilebilecek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(yapılabilecek) bir tasarım ortaya çıkarmaya çalışabilirsini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835280" y="333360"/>
            <a:ext cx="4583160" cy="32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692360" y="2997360"/>
            <a:ext cx="56275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Kurgu Kuşağı Projeniz Yapılamıyors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9640" y="1185840"/>
            <a:ext cx="7704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unun için öncelikli olarak bir sorundan  yola çıkmalısınız. Sorun denildiğinde hemen ailesel veya duygusal sorunlar akla gelmemelid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Örnek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Kişisel sorun: Kullandığımız araç ve gereçler, giysilerimiz, yediğimiz yiyecekler, temizlik v.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Çevresel sorunlar: Trafik, okul, küresel ısınma, çevre kirliliği, şiddet, hırsızlık v.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971640" y="3933720"/>
            <a:ext cx="770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uradan yola çıkarak sizlerden yaşamınızda değiştirmeyi , geliştirmeyi veya kolaylaştırmayı istediğiniz bir sorunu düşünmeniz ve bir tasarım hazırlamanız istenmekted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403280" y="476280"/>
            <a:ext cx="61930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780000" y="1197000"/>
            <a:ext cx="5060880" cy="37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er öğrenci hayatındaki sorunları listeleyerek bunlara çözüm önerileri getirecek ve çözüm önerilerinden bir tasarım yapmaya ders öğretmeni ile birlikte karar verecek ve o tasarımı yapacaksını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3600360" cy="626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5T08:27:46Z</dcterms:created>
  <dc:creator>xxx</dc:creator>
  <dc:description/>
  <dc:language>en-US</dc:language>
  <cp:lastModifiedBy>KULLANICI-1</cp:lastModifiedBy>
  <dcterms:modified xsi:type="dcterms:W3CDTF">2010-06-02T08:57:36Z</dcterms:modified>
  <cp:revision>231</cp:revision>
  <dc:subject/>
  <dc:title>Slayt 1</dc:title>
</cp:coreProperties>
</file>